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20.wmf" ContentType="image/x-wmf"/>
  <Override PartName="/ppt/media/image18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8.wmf" ContentType="image/x-wmf"/>
  <Override PartName="/ppt/media/image8.wmf" ContentType="image/x-wmf"/>
  <Override PartName="/ppt/media/image13.wmf" ContentType="image/x-wmf"/>
  <Override PartName="/ppt/media/image37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7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AFA-350D-4F69-AAAE-A968829F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867-C200-4AC3-A3FE-F1E14476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645-31FB-4EE0-8659-C1FE8530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00E-8752-4546-8782-1709EF55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451-2029-4718-9BBF-94D57F47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8C4-5FF2-48B2-9874-6D98D79D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05A-D545-43C9-8539-EDD1CF9F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544-E3C5-4B7B-B354-E4F23415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2D3-A70D-46D1-987D-1DFF9D3C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A12-2247-4F63-B92A-89EAA4CC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252-3A72-43A2-A3EA-B9D6681D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25E-0CFB-4499-801F-80D23E94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A62D-A7E4-4844-A011-B3F40453B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42d1c"/>
                </a:solidFill>
                <a:latin typeface="Times New Roman"/>
                <a:cs typeface="Times New Roman (Arabic)"/>
              </a:rPr>
              <a:t>طريقك الى النجاح في الحياة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991360" y="685800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ART0799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352680" y="2819520"/>
            <a:ext cx="3124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عرف نقاط ضعفك و حاول ان تتخلص منها و اعرف نقاط قوتك و ركز علي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ART0871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99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خوف من أي محاولة جديدة طريق حتمي للفش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RT0993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2773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استعانة بالله و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ثقة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ه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طريقك الى النجا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ART0844" descr=""/>
          <p:cNvPicPr/>
          <p:nvPr/>
        </p:nvPicPr>
        <p:blipFill>
          <a:blip r:embed="rId1"/>
          <a:stretch/>
        </p:blipFill>
        <p:spPr>
          <a:xfrm>
            <a:off x="3462480" y="3048120"/>
            <a:ext cx="27255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ناس الذين لا يخطئون ابداً هم الذين لا يتعلمون ابدا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ART0966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4336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جعل فشلك بداية جديدة لنجاح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ART0815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1351080" cy="2419560"/>
          </a:xfrm>
          <a:prstGeom prst="rect">
            <a:avLst/>
          </a:prstGeom>
          <a:ln w="0">
            <a:noFill/>
          </a:ln>
        </p:spPr>
      </p:pic>
      <p:pic>
        <p:nvPicPr>
          <p:cNvPr id="72" name="bd04972_" descr=""/>
          <p:cNvPicPr/>
          <p:nvPr/>
        </p:nvPicPr>
        <p:blipFill>
          <a:blip r:embed="rId2"/>
          <a:stretch/>
        </p:blipFill>
        <p:spPr>
          <a:xfrm>
            <a:off x="4952880" y="3505320"/>
            <a:ext cx="21621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حاولة النهوض من السقوط افضل من ان تداس بالاقدام و انت على الار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CART1014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2433600" cy="2554200"/>
          </a:xfrm>
          <a:prstGeom prst="rect">
            <a:avLst/>
          </a:prstGeom>
          <a:ln w="0">
            <a:noFill/>
          </a:ln>
        </p:spPr>
      </p:pic>
      <p:pic>
        <p:nvPicPr>
          <p:cNvPr id="75" name="CMEN322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152244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تحاول محاولة جديدة و تخطئ لتتعلم افضل من عدم المحاولة نهائياً و تدعي الحرص و النجاح في حيات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ART1040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58156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سأل نفسك دائماً عما تخاف و قل لن يصيبنا الا ما كتب الله لن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ART0855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1885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يس السؤال كيف يراك الناس و لكن كيف أنت ترى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ART1022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9750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تقاس السعادة بالمال و لا الشهرة ...الهدايه هي السبيل الى السعادة الحقيق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ART1008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97040" cy="22654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1668240" y="3200400"/>
            <a:ext cx="2198520" cy="2276640"/>
            <a:chOff x="1668240" y="3200400"/>
            <a:chExt cx="2198520" cy="2276640"/>
          </a:xfrm>
        </p:grpSpPr>
        <p:grpSp>
          <p:nvGrpSpPr>
            <p:cNvPr id="85" name=""/>
            <p:cNvGrpSpPr/>
            <p:nvPr/>
          </p:nvGrpSpPr>
          <p:grpSpPr>
            <a:xfrm>
              <a:off x="1668240" y="3200400"/>
              <a:ext cx="2198520" cy="2276640"/>
              <a:chOff x="1668240" y="3200400"/>
              <a:chExt cx="2198520" cy="227664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46" y="58"/>
                    </a:ln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97" y="90"/>
                    </a:ln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606"/>
                    </a:ln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17" y="0"/>
                    </a:ln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13" y="70"/>
                    </a:ln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21" y="12"/>
                    </a:ln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17" y="168"/>
                    </a:ln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0"/>
                    </a:ln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0"/>
                    </a:ln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0"/>
                    </a:ln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74" y="5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29" y="8"/>
                    </a:ln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57" y="0"/>
                    </a:ln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79" y="115"/>
                    </a:ln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71" y="114"/>
                    </a:ln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9" y="0"/>
                    </a:ln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78" y="0"/>
                    </a:ln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70" y="0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22" y="4"/>
                    </a:ln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943000" y="4468680"/>
                <a:ext cx="325440" cy="149400"/>
              </a:xfrm>
              <a:custGeom>
                <a:avLst/>
                <a:gdLst/>
                <a:ahLst/>
                <a:rect l="l" t="t" r="r" b="b"/>
                <a:pathLst>
                  <a:path w="205" h="94">
                    <a:moveTo>
                      <a:pt x="205" y="0"/>
                    </a:moveTo>
                    <a:lnTo>
                      <a:pt x="205" y="0"/>
                    </a:lnTo>
                    <a:lnTo>
                      <a:pt x="201" y="4"/>
                    </a:lnTo>
                    <a:lnTo>
                      <a:pt x="193" y="12"/>
                    </a:lnTo>
                    <a:lnTo>
                      <a:pt x="180" y="16"/>
                    </a:lnTo>
                    <a:lnTo>
                      <a:pt x="172" y="20"/>
                    </a:lnTo>
                    <a:lnTo>
                      <a:pt x="156" y="25"/>
                    </a:lnTo>
                    <a:lnTo>
                      <a:pt x="143" y="33"/>
                    </a:lnTo>
                    <a:lnTo>
                      <a:pt x="127" y="37"/>
                    </a:lnTo>
                    <a:lnTo>
                      <a:pt x="111" y="41"/>
                    </a:lnTo>
                    <a:lnTo>
                      <a:pt x="94" y="45"/>
                    </a:lnTo>
                    <a:lnTo>
                      <a:pt x="82" y="49"/>
                    </a:lnTo>
                    <a:lnTo>
                      <a:pt x="66" y="57"/>
                    </a:lnTo>
                    <a:lnTo>
                      <a:pt x="49" y="61"/>
                    </a:lnTo>
                    <a:lnTo>
                      <a:pt x="33" y="70"/>
                    </a:lnTo>
                    <a:lnTo>
                      <a:pt x="20" y="78"/>
                    </a:lnTo>
                    <a:lnTo>
                      <a:pt x="8" y="86"/>
                    </a:lnTo>
                    <a:lnTo>
                      <a:pt x="0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995200" y="4475160"/>
                <a:ext cx="1296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8" y="0"/>
                    </a:moveTo>
                    <a:lnTo>
                      <a:pt x="8" y="0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6" y="0"/>
                    </a:ln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51" y="8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10" y="86"/>
                    </a:ln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1" y="61"/>
                    </a:ln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644560" y="4130640"/>
                <a:ext cx="84240" cy="13644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53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5" y="16"/>
                    </a:lnTo>
                    <a:lnTo>
                      <a:pt x="41" y="20"/>
                    </a:lnTo>
                    <a:lnTo>
                      <a:pt x="37" y="24"/>
                    </a:lnTo>
                    <a:lnTo>
                      <a:pt x="33" y="33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5" y="49"/>
                    </a:lnTo>
                    <a:lnTo>
                      <a:pt x="21" y="53"/>
                    </a:lnTo>
                    <a:lnTo>
                      <a:pt x="16" y="57"/>
                    </a:lnTo>
                    <a:lnTo>
                      <a:pt x="12" y="61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78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688840" y="4130640"/>
                <a:ext cx="85680" cy="1173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54" y="0"/>
                    </a:moveTo>
                    <a:lnTo>
                      <a:pt x="54" y="0"/>
                    </a:lnTo>
                    <a:lnTo>
                      <a:pt x="45" y="8"/>
                    </a:lnTo>
                    <a:lnTo>
                      <a:pt x="41" y="16"/>
                    </a:lnTo>
                    <a:lnTo>
                      <a:pt x="33" y="24"/>
                    </a:lnTo>
                    <a:lnTo>
                      <a:pt x="29" y="37"/>
                    </a:lnTo>
                    <a:lnTo>
                      <a:pt x="21" y="45"/>
                    </a:lnTo>
                    <a:lnTo>
                      <a:pt x="13" y="53"/>
                    </a:lnTo>
                    <a:lnTo>
                      <a:pt x="9" y="61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781000" y="4046400"/>
                <a:ext cx="123840" cy="5904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17" y="16"/>
                    </a:lnTo>
                    <a:lnTo>
                      <a:pt x="21" y="20"/>
                    </a:lnTo>
                    <a:lnTo>
                      <a:pt x="25" y="24"/>
                    </a:lnTo>
                    <a:lnTo>
                      <a:pt x="25" y="28"/>
                    </a:lnTo>
                    <a:lnTo>
                      <a:pt x="29" y="37"/>
                    </a:lnTo>
                    <a:lnTo>
                      <a:pt x="29" y="37"/>
                    </a:lnTo>
                    <a:lnTo>
                      <a:pt x="37" y="32"/>
                    </a:lnTo>
                    <a:lnTo>
                      <a:pt x="46" y="32"/>
                    </a:lnTo>
                    <a:lnTo>
                      <a:pt x="50" y="28"/>
                    </a:lnTo>
                    <a:lnTo>
                      <a:pt x="58" y="24"/>
                    </a:lnTo>
                    <a:lnTo>
                      <a:pt x="62" y="20"/>
                    </a:lnTo>
                    <a:lnTo>
                      <a:pt x="70" y="12"/>
                    </a:lnTo>
                    <a:lnTo>
                      <a:pt x="74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877480" y="407196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4" y="12"/>
                    </a:lnTo>
                    <a:lnTo>
                      <a:pt x="29" y="21"/>
                    </a:lnTo>
                    <a:lnTo>
                      <a:pt x="33" y="29"/>
                    </a:lnTo>
                    <a:lnTo>
                      <a:pt x="37" y="37"/>
                    </a:lnTo>
                    <a:lnTo>
                      <a:pt x="41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357280" y="4168800"/>
                <a:ext cx="169920" cy="33480"/>
              </a:xfrm>
              <a:custGeom>
                <a:avLst/>
                <a:gdLst/>
                <a:ahLst/>
                <a:rect l="l" t="t" r="r" b="b"/>
                <a:pathLst>
                  <a:path w="107" h="21">
                    <a:moveTo>
                      <a:pt x="107" y="9"/>
                    </a:moveTo>
                    <a:lnTo>
                      <a:pt x="107" y="9"/>
                    </a:lnTo>
                    <a:lnTo>
                      <a:pt x="98" y="9"/>
                    </a:lnTo>
                    <a:lnTo>
                      <a:pt x="94" y="5"/>
                    </a:lnTo>
                    <a:lnTo>
                      <a:pt x="90" y="5"/>
                    </a:lnTo>
                    <a:lnTo>
                      <a:pt x="82" y="5"/>
                    </a:lnTo>
                    <a:lnTo>
                      <a:pt x="78" y="5"/>
                    </a:lnTo>
                    <a:lnTo>
                      <a:pt x="70" y="5"/>
                    </a:lnTo>
                    <a:lnTo>
                      <a:pt x="62" y="0"/>
                    </a:lnTo>
                    <a:lnTo>
                      <a:pt x="57" y="5"/>
                    </a:lnTo>
                    <a:lnTo>
                      <a:pt x="49" y="5"/>
                    </a:lnTo>
                    <a:lnTo>
                      <a:pt x="45" y="5"/>
                    </a:lnTo>
                    <a:lnTo>
                      <a:pt x="37" y="5"/>
                    </a:lnTo>
                    <a:lnTo>
                      <a:pt x="29" y="9"/>
                    </a:lnTo>
                    <a:lnTo>
                      <a:pt x="21" y="9"/>
                    </a:lnTo>
                    <a:lnTo>
                      <a:pt x="17" y="13"/>
                    </a:lnTo>
                    <a:lnTo>
                      <a:pt x="8" y="17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370960" y="4149720"/>
                <a:ext cx="15588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98" y="0"/>
                    </a:moveTo>
                    <a:lnTo>
                      <a:pt x="98" y="0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4"/>
                    </a:lnTo>
                    <a:lnTo>
                      <a:pt x="57" y="4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12"/>
                    </a:lnTo>
                    <a:lnTo>
                      <a:pt x="33" y="17"/>
                    </a:lnTo>
                    <a:lnTo>
                      <a:pt x="29" y="17"/>
                    </a:lnTo>
                    <a:lnTo>
                      <a:pt x="21" y="21"/>
                    </a:lnTo>
                    <a:lnTo>
                      <a:pt x="17" y="25"/>
                    </a:lnTo>
                    <a:lnTo>
                      <a:pt x="8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415960" y="4105440"/>
                <a:ext cx="33120" cy="6336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1" y="0"/>
                    </a:moveTo>
                    <a:lnTo>
                      <a:pt x="21" y="0"/>
                    </a:lnTo>
                    <a:lnTo>
                      <a:pt x="17" y="4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0" y="61"/>
                    </a:ln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695320" y="425448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6"/>
                    </a:lnTo>
                    <a:lnTo>
                      <a:pt x="20" y="20"/>
                    </a:lnTo>
                    <a:lnTo>
                      <a:pt x="24" y="24"/>
                    </a:lnTo>
                    <a:lnTo>
                      <a:pt x="28" y="28"/>
                    </a:lnTo>
                    <a:lnTo>
                      <a:pt x="3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734920" y="4280040"/>
                <a:ext cx="46080" cy="5220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13" y="17"/>
                    </a:lnTo>
                    <a:lnTo>
                      <a:pt x="17" y="21"/>
                    </a:lnTo>
                    <a:lnTo>
                      <a:pt x="21" y="25"/>
                    </a:lnTo>
                    <a:lnTo>
                      <a:pt x="25" y="29"/>
                    </a:lnTo>
                    <a:lnTo>
                      <a:pt x="29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5" y="0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825280" y="42148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1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839320" y="422100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13"/>
                    </a:lnTo>
                    <a:lnTo>
                      <a:pt x="16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852280" y="424188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2871000" y="425448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890440" y="4273560"/>
                <a:ext cx="46080" cy="1260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5" y="4"/>
                    </a:lnTo>
                    <a:lnTo>
                      <a:pt x="29" y="8"/>
                    </a:lnTo>
                    <a:lnTo>
                      <a:pt x="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904480" y="42991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5"/>
                    </a:lnTo>
                    <a:lnTo>
                      <a:pt x="20" y="5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2917440" y="4332240"/>
                <a:ext cx="59040" cy="180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923560" y="4357800"/>
                <a:ext cx="58680" cy="144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917440" y="43783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5" y="90"/>
                    </a:ln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722320" y="4540320"/>
                <a:ext cx="31680" cy="104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4" y="25"/>
                    </a:lnTo>
                    <a:lnTo>
                      <a:pt x="8" y="33"/>
                    </a:lnTo>
                    <a:lnTo>
                      <a:pt x="8" y="41"/>
                    </a:lnTo>
                    <a:lnTo>
                      <a:pt x="12" y="49"/>
                    </a:lnTo>
                    <a:lnTo>
                      <a:pt x="16" y="57"/>
                    </a:lnTo>
                    <a:lnTo>
                      <a:pt x="20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781000" y="4487760"/>
                <a:ext cx="38160" cy="176400"/>
              </a:xfrm>
              <a:custGeom>
                <a:avLst/>
                <a:gdLst/>
                <a:ahLst/>
                <a:rect l="l" t="t" r="r" b="b"/>
                <a:pathLst>
                  <a:path w="24" h="111">
                    <a:moveTo>
                      <a:pt x="4" y="0"/>
                    </a:moveTo>
                    <a:lnTo>
                      <a:pt x="4" y="0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4" y="45"/>
                    </a:lnTo>
                    <a:lnTo>
                      <a:pt x="4" y="53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8" y="70"/>
                    </a:lnTo>
                    <a:lnTo>
                      <a:pt x="8" y="78"/>
                    </a:lnTo>
                    <a:lnTo>
                      <a:pt x="12" y="82"/>
                    </a:lnTo>
                    <a:lnTo>
                      <a:pt x="12" y="90"/>
                    </a:lnTo>
                    <a:lnTo>
                      <a:pt x="16" y="94"/>
                    </a:lnTo>
                    <a:lnTo>
                      <a:pt x="20" y="103"/>
                    </a:lnTo>
                    <a:lnTo>
                      <a:pt x="24" y="1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50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598480" y="428004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49" y="0"/>
                    </a:moveTo>
                    <a:lnTo>
                      <a:pt x="49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9" y="4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572560" y="4299120"/>
                <a:ext cx="7164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45" y="0"/>
                    </a:moveTo>
                    <a:lnTo>
                      <a:pt x="45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5"/>
                    </a:lnTo>
                    <a:lnTo>
                      <a:pt x="17" y="5"/>
                    </a:lnTo>
                    <a:lnTo>
                      <a:pt x="13" y="5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58520" y="431964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32" y="4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545560" y="433872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4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532960" y="4370400"/>
                <a:ext cx="65160" cy="792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526840" y="439740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520360" y="4422600"/>
                <a:ext cx="58680" cy="129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2" y="0"/>
                    </a:ln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5" y="90"/>
                    </a:ln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507760" y="3759120"/>
                <a:ext cx="161640" cy="14400"/>
              </a:xfrm>
              <a:custGeom>
                <a:avLst/>
                <a:gdLst/>
                <a:ahLst/>
                <a:rect l="l" t="t" r="r" b="b"/>
                <a:pathLst>
                  <a:path w="102" h="9">
                    <a:moveTo>
                      <a:pt x="102" y="0"/>
                    </a:moveTo>
                    <a:lnTo>
                      <a:pt x="102" y="0"/>
                    </a:lnTo>
                    <a:lnTo>
                      <a:pt x="94" y="0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4" y="4"/>
                    </a:lnTo>
                    <a:lnTo>
                      <a:pt x="70" y="9"/>
                    </a:lnTo>
                    <a:lnTo>
                      <a:pt x="61" y="9"/>
                    </a:lnTo>
                    <a:lnTo>
                      <a:pt x="57" y="9"/>
                    </a:lnTo>
                    <a:lnTo>
                      <a:pt x="49" y="9"/>
                    </a:lnTo>
                    <a:lnTo>
                      <a:pt x="41" y="9"/>
                    </a:lnTo>
                    <a:lnTo>
                      <a:pt x="37" y="9"/>
                    </a:lnTo>
                    <a:lnTo>
                      <a:pt x="29" y="9"/>
                    </a:lnTo>
                    <a:lnTo>
                      <a:pt x="25" y="9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2591640" y="36226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21"/>
                    </a:moveTo>
                    <a:lnTo>
                      <a:pt x="20" y="21"/>
                    </a:lnTo>
                    <a:lnTo>
                      <a:pt x="16" y="21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3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2539800" y="347976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16" y="29"/>
                    </a:moveTo>
                    <a:lnTo>
                      <a:pt x="16" y="29"/>
                    </a:lnTo>
                    <a:lnTo>
                      <a:pt x="16" y="25"/>
                    </a:lnTo>
                    <a:lnTo>
                      <a:pt x="12" y="21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2266560" y="3584520"/>
                <a:ext cx="90720" cy="52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0" y="33"/>
                    </a:moveTo>
                    <a:lnTo>
                      <a:pt x="0" y="33"/>
                    </a:lnTo>
                    <a:lnTo>
                      <a:pt x="8" y="28"/>
                    </a:lnTo>
                    <a:lnTo>
                      <a:pt x="12" y="20"/>
                    </a:lnTo>
                    <a:lnTo>
                      <a:pt x="20" y="16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41" y="4"/>
                    </a:lnTo>
                    <a:lnTo>
                      <a:pt x="49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260440" y="362268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24" y="0"/>
                    </a:moveTo>
                    <a:lnTo>
                      <a:pt x="24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2343960" y="3311640"/>
                <a:ext cx="65160" cy="149040"/>
              </a:xfrm>
              <a:custGeom>
                <a:avLst/>
                <a:gdLst/>
                <a:ahLst/>
                <a:rect l="l" t="t" r="r" b="b"/>
                <a:pathLst>
                  <a:path w="41" h="9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2"/>
                    </a:lnTo>
                    <a:lnTo>
                      <a:pt x="20" y="12"/>
                    </a:lnTo>
                    <a:lnTo>
                      <a:pt x="24" y="16"/>
                    </a:lnTo>
                    <a:lnTo>
                      <a:pt x="29" y="20"/>
                    </a:lnTo>
                    <a:lnTo>
                      <a:pt x="33" y="24"/>
                    </a:lnTo>
                    <a:lnTo>
                      <a:pt x="37" y="32"/>
                    </a:lnTo>
                    <a:lnTo>
                      <a:pt x="37" y="37"/>
                    </a:lnTo>
                    <a:lnTo>
                      <a:pt x="41" y="45"/>
                    </a:lnTo>
                    <a:lnTo>
                      <a:pt x="41" y="53"/>
                    </a:lnTo>
                    <a:lnTo>
                      <a:pt x="41" y="61"/>
                    </a:lnTo>
                    <a:lnTo>
                      <a:pt x="41" y="73"/>
                    </a:lnTo>
                    <a:lnTo>
                      <a:pt x="41" y="82"/>
                    </a:lnTo>
                    <a:lnTo>
                      <a:pt x="4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318760" y="3519360"/>
                <a:ext cx="44280" cy="123840"/>
              </a:xfrm>
              <a:custGeom>
                <a:avLst/>
                <a:gdLst/>
                <a:ahLst/>
                <a:rect l="l" t="t" r="r" b="b"/>
                <a:pathLst>
                  <a:path w="28" h="78">
                    <a:moveTo>
                      <a:pt x="28" y="0"/>
                    </a:moveTo>
                    <a:lnTo>
                      <a:pt x="28" y="0"/>
                    </a:lnTo>
                    <a:lnTo>
                      <a:pt x="28" y="8"/>
                    </a:lnTo>
                    <a:lnTo>
                      <a:pt x="28" y="20"/>
                    </a:lnTo>
                    <a:lnTo>
                      <a:pt x="24" y="28"/>
                    </a:lnTo>
                    <a:lnTo>
                      <a:pt x="20" y="41"/>
                    </a:lnTo>
                    <a:lnTo>
                      <a:pt x="16" y="49"/>
                    </a:lnTo>
                    <a:lnTo>
                      <a:pt x="12" y="57"/>
                    </a:lnTo>
                    <a:lnTo>
                      <a:pt x="4" y="69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2292120" y="352584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25" y="0"/>
                    </a:moveTo>
                    <a:lnTo>
                      <a:pt x="25" y="0"/>
                    </a:lnTo>
                    <a:lnTo>
                      <a:pt x="25" y="8"/>
                    </a:lnTo>
                    <a:lnTo>
                      <a:pt x="21" y="12"/>
                    </a:lnTo>
                    <a:lnTo>
                      <a:pt x="21" y="20"/>
                    </a:lnTo>
                    <a:lnTo>
                      <a:pt x="16" y="29"/>
                    </a:lnTo>
                    <a:lnTo>
                      <a:pt x="12" y="33"/>
                    </a:lnTo>
                    <a:lnTo>
                      <a:pt x="8" y="41"/>
                    </a:lnTo>
                    <a:lnTo>
                      <a:pt x="4" y="45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2266200" y="3532320"/>
                <a:ext cx="19080" cy="5220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2247480" y="3525840"/>
                <a:ext cx="6480" cy="52560"/>
              </a:xfrm>
              <a:custGeom>
                <a:avLst/>
                <a:gdLst/>
                <a:ahLst/>
                <a:rect l="l" t="t" r="r" b="b"/>
                <a:pathLst>
                  <a:path w="4" h="33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253960" y="3486240"/>
                <a:ext cx="311040" cy="92160"/>
              </a:xfrm>
              <a:custGeom>
                <a:avLst/>
                <a:gdLst/>
                <a:ahLst/>
                <a:rect l="l" t="t" r="r" b="b"/>
                <a:pathLst>
                  <a:path w="196" h="58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8" y="4"/>
                    </a:lnTo>
                    <a:lnTo>
                      <a:pt x="36" y="4"/>
                    </a:lnTo>
                    <a:lnTo>
                      <a:pt x="45" y="4"/>
                    </a:lnTo>
                    <a:lnTo>
                      <a:pt x="49" y="4"/>
                    </a:lnTo>
                    <a:lnTo>
                      <a:pt x="57" y="4"/>
                    </a:lnTo>
                    <a:lnTo>
                      <a:pt x="65" y="8"/>
                    </a:lnTo>
                    <a:lnTo>
                      <a:pt x="73" y="8"/>
                    </a:lnTo>
                    <a:lnTo>
                      <a:pt x="81" y="8"/>
                    </a:lnTo>
                    <a:lnTo>
                      <a:pt x="86" y="8"/>
                    </a:lnTo>
                    <a:lnTo>
                      <a:pt x="94" y="13"/>
                    </a:lnTo>
                    <a:lnTo>
                      <a:pt x="102" y="13"/>
                    </a:lnTo>
                    <a:lnTo>
                      <a:pt x="106" y="13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8" y="17"/>
                    </a:lnTo>
                    <a:lnTo>
                      <a:pt x="127" y="21"/>
                    </a:lnTo>
                    <a:lnTo>
                      <a:pt x="131" y="21"/>
                    </a:lnTo>
                    <a:lnTo>
                      <a:pt x="135" y="25"/>
                    </a:lnTo>
                    <a:lnTo>
                      <a:pt x="139" y="29"/>
                    </a:lnTo>
                    <a:lnTo>
                      <a:pt x="147" y="29"/>
                    </a:lnTo>
                    <a:lnTo>
                      <a:pt x="151" y="33"/>
                    </a:lnTo>
                    <a:lnTo>
                      <a:pt x="155" y="37"/>
                    </a:lnTo>
                    <a:lnTo>
                      <a:pt x="159" y="37"/>
                    </a:lnTo>
                    <a:lnTo>
                      <a:pt x="168" y="41"/>
                    </a:lnTo>
                    <a:lnTo>
                      <a:pt x="172" y="41"/>
                    </a:lnTo>
                    <a:lnTo>
                      <a:pt x="176" y="45"/>
                    </a:lnTo>
                    <a:lnTo>
                      <a:pt x="180" y="45"/>
                    </a:lnTo>
                    <a:lnTo>
                      <a:pt x="184" y="49"/>
                    </a:lnTo>
                    <a:lnTo>
                      <a:pt x="192" y="54"/>
                    </a:lnTo>
                    <a:lnTo>
                      <a:pt x="19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2409480" y="3519360"/>
                <a:ext cx="2700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2592000" y="41893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564640" y="417672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41" y="12"/>
                    </a:lnTo>
                    <a:lnTo>
                      <a:pt x="4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688840" y="417672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675880" y="415620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2" y="4"/>
                    </a:moveTo>
                    <a:lnTo>
                      <a:pt x="12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825280" y="413064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812320" y="415620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5" y="49"/>
                    </a:ln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53" y="16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12" y="0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33"/>
                    </a:ln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5"/>
                    </a:ln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33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28" y="0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8" y="0"/>
                    </a:ln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53" y="17"/>
                    </a:ln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5"/>
                    </a:ln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70" y="12"/>
                    </a:ln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1" y="0"/>
                    </a:ln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82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53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12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3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33" y="0"/>
                    </a:ln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0" y="0"/>
                    </a:ln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13"/>
                    </a:ln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675880" y="3597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flipH="1">
              <a:off x="2675880" y="35971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20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29"/>
                  </a:ln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2" y="32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99"/>
                  </a:ln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70" y="21"/>
                  </a:ln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7" y="17"/>
                  </a:ln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33"/>
                  </a:ln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53" y="0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ثق بنفسك..... فالناجحون يثقون دائماً في قدرتهم على ا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EOP1050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4380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شكلتك ليس قلة ما تملك و لكن مشكلتك قلة الدواف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CMEN104" descr=""/>
          <p:cNvPicPr/>
          <p:nvPr/>
        </p:nvPicPr>
        <p:blipFill>
          <a:blip r:embed="rId1"/>
          <a:stretch/>
        </p:blipFill>
        <p:spPr>
          <a:xfrm>
            <a:off x="3048120" y="3782880"/>
            <a:ext cx="3571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ذا كانت لديك مشكلة فانها لن تحل اذا انكرت وجود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MEN016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9368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تقليل من قيمة الآخرين يتسبب في تحطيم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CART0940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619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لم تكن تعرف طريقك جيداً فلن تستطيع الوصول الى نهايت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CART1016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7672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تذكر ان الشعور بالوحدة ناتج عن سوء العلاقة و سوء العلاقة ناتج عن سوء التعامل مع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CART0812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23200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غالباً لا نرى الامور على حقيقتها لكننا نراها كما ندركها نحن. كن واقعياً و انظر الى الامور كما هي و بلا تحي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CART0829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17035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حل المشكلة يوجد في داخل المشكلة. ابحث عن الحل في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داخ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شكل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CART082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971800" cy="2604960"/>
          </a:xfrm>
          <a:prstGeom prst="rect">
            <a:avLst/>
          </a:prstGeom>
          <a:ln w="0">
            <a:noFill/>
          </a:ln>
        </p:spPr>
      </p:pic>
      <p:pic>
        <p:nvPicPr>
          <p:cNvPr id="343" name="CART0824" descr=""/>
          <p:cNvPicPr/>
          <p:nvPr/>
        </p:nvPicPr>
        <p:blipFill>
          <a:blip r:embed="rId2"/>
          <a:stretch/>
        </p:blipFill>
        <p:spPr>
          <a:xfrm>
            <a:off x="4952880" y="2395440"/>
            <a:ext cx="31291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شخص الحر هو الذي يقول لا للخطأ و نعم للصوا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447920" y="2743200"/>
            <a:ext cx="2422080" cy="3133440"/>
            <a:chOff x="1447920" y="2743200"/>
            <a:chExt cx="2422080" cy="3133440"/>
          </a:xfrm>
        </p:grpSpPr>
        <p:sp>
          <p:nvSpPr>
            <p:cNvPr id="346" name=""/>
            <p:cNvSpPr/>
            <p:nvPr/>
          </p:nvSpPr>
          <p:spPr>
            <a:xfrm flipH="1">
              <a:off x="3144600" y="2743200"/>
              <a:ext cx="628920" cy="602640"/>
            </a:xfrm>
            <a:custGeom>
              <a:avLst/>
              <a:gdLst/>
              <a:ahLst/>
              <a:rect l="l" t="t" r="r" b="b"/>
              <a:pathLst>
                <a:path w="993" h="832">
                  <a:moveTo>
                    <a:pt x="12" y="832"/>
                  </a:moveTo>
                  <a:lnTo>
                    <a:pt x="0" y="602"/>
                  </a:lnTo>
                  <a:lnTo>
                    <a:pt x="29" y="429"/>
                  </a:lnTo>
                  <a:lnTo>
                    <a:pt x="107" y="285"/>
                  </a:lnTo>
                  <a:lnTo>
                    <a:pt x="200" y="163"/>
                  </a:lnTo>
                  <a:lnTo>
                    <a:pt x="301" y="68"/>
                  </a:lnTo>
                  <a:lnTo>
                    <a:pt x="445" y="11"/>
                  </a:lnTo>
                  <a:lnTo>
                    <a:pt x="586" y="0"/>
                  </a:lnTo>
                  <a:lnTo>
                    <a:pt x="780" y="57"/>
                  </a:lnTo>
                  <a:lnTo>
                    <a:pt x="903" y="157"/>
                  </a:lnTo>
                  <a:lnTo>
                    <a:pt x="993" y="319"/>
                  </a:lnTo>
                  <a:lnTo>
                    <a:pt x="958" y="507"/>
                  </a:lnTo>
                  <a:lnTo>
                    <a:pt x="892" y="587"/>
                  </a:lnTo>
                  <a:lnTo>
                    <a:pt x="597" y="602"/>
                  </a:lnTo>
                  <a:lnTo>
                    <a:pt x="12" y="832"/>
                  </a:lnTo>
                  <a:lnTo>
                    <a:pt x="12" y="832"/>
                  </a:lnTo>
                  <a:close/>
                </a:path>
              </a:pathLst>
            </a:custGeom>
            <a:solidFill>
              <a:srgbClr val="ff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067200" y="2998080"/>
              <a:ext cx="755640" cy="1552320"/>
            </a:xfrm>
            <a:custGeom>
              <a:avLst/>
              <a:gdLst/>
              <a:ahLst/>
              <a:rect l="l" t="t" r="r" b="b"/>
              <a:pathLst>
                <a:path w="1192" h="2142">
                  <a:moveTo>
                    <a:pt x="552" y="23"/>
                  </a:moveTo>
                  <a:lnTo>
                    <a:pt x="341" y="124"/>
                  </a:lnTo>
                  <a:lnTo>
                    <a:pt x="223" y="263"/>
                  </a:lnTo>
                  <a:lnTo>
                    <a:pt x="128" y="424"/>
                  </a:lnTo>
                  <a:lnTo>
                    <a:pt x="72" y="603"/>
                  </a:lnTo>
                  <a:lnTo>
                    <a:pt x="27" y="799"/>
                  </a:lnTo>
                  <a:lnTo>
                    <a:pt x="0" y="1021"/>
                  </a:lnTo>
                  <a:lnTo>
                    <a:pt x="0" y="1257"/>
                  </a:lnTo>
                  <a:lnTo>
                    <a:pt x="55" y="1479"/>
                  </a:lnTo>
                  <a:lnTo>
                    <a:pt x="116" y="1690"/>
                  </a:lnTo>
                  <a:lnTo>
                    <a:pt x="223" y="1880"/>
                  </a:lnTo>
                  <a:lnTo>
                    <a:pt x="361" y="2042"/>
                  </a:lnTo>
                  <a:lnTo>
                    <a:pt x="529" y="2137"/>
                  </a:lnTo>
                  <a:lnTo>
                    <a:pt x="675" y="2142"/>
                  </a:lnTo>
                  <a:lnTo>
                    <a:pt x="791" y="2087"/>
                  </a:lnTo>
                  <a:lnTo>
                    <a:pt x="909" y="1964"/>
                  </a:lnTo>
                  <a:lnTo>
                    <a:pt x="970" y="1797"/>
                  </a:lnTo>
                  <a:lnTo>
                    <a:pt x="981" y="1624"/>
                  </a:lnTo>
                  <a:lnTo>
                    <a:pt x="993" y="1439"/>
                  </a:lnTo>
                  <a:lnTo>
                    <a:pt x="1025" y="1245"/>
                  </a:lnTo>
                  <a:lnTo>
                    <a:pt x="1097" y="1110"/>
                  </a:lnTo>
                  <a:lnTo>
                    <a:pt x="1175" y="983"/>
                  </a:lnTo>
                  <a:lnTo>
                    <a:pt x="1192" y="804"/>
                  </a:lnTo>
                  <a:lnTo>
                    <a:pt x="1120" y="614"/>
                  </a:lnTo>
                  <a:lnTo>
                    <a:pt x="1036" y="447"/>
                  </a:lnTo>
                  <a:lnTo>
                    <a:pt x="919" y="162"/>
                  </a:lnTo>
                  <a:lnTo>
                    <a:pt x="803" y="52"/>
                  </a:lnTo>
                  <a:lnTo>
                    <a:pt x="669" y="0"/>
                  </a:lnTo>
                  <a:lnTo>
                    <a:pt x="552" y="23"/>
                  </a:lnTo>
                  <a:lnTo>
                    <a:pt x="552" y="23"/>
                  </a:lnTo>
                  <a:close/>
                </a:path>
              </a:pathLst>
            </a:custGeom>
            <a:solidFill>
              <a:srgbClr val="ffd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274920" y="3131640"/>
              <a:ext cx="470520" cy="1342080"/>
            </a:xfrm>
            <a:custGeom>
              <a:avLst/>
              <a:gdLst/>
              <a:ahLst/>
              <a:rect l="l" t="t" r="r" b="b"/>
              <a:pathLst>
                <a:path w="741" h="1853">
                  <a:moveTo>
                    <a:pt x="207" y="78"/>
                  </a:moveTo>
                  <a:lnTo>
                    <a:pt x="101" y="256"/>
                  </a:lnTo>
                  <a:lnTo>
                    <a:pt x="45" y="452"/>
                  </a:lnTo>
                  <a:lnTo>
                    <a:pt x="6" y="686"/>
                  </a:lnTo>
                  <a:lnTo>
                    <a:pt x="0" y="954"/>
                  </a:lnTo>
                  <a:lnTo>
                    <a:pt x="28" y="1193"/>
                  </a:lnTo>
                  <a:lnTo>
                    <a:pt x="84" y="1412"/>
                  </a:lnTo>
                  <a:lnTo>
                    <a:pt x="156" y="1596"/>
                  </a:lnTo>
                  <a:lnTo>
                    <a:pt x="245" y="1724"/>
                  </a:lnTo>
                  <a:lnTo>
                    <a:pt x="369" y="1819"/>
                  </a:lnTo>
                  <a:lnTo>
                    <a:pt x="470" y="1853"/>
                  </a:lnTo>
                  <a:lnTo>
                    <a:pt x="547" y="1853"/>
                  </a:lnTo>
                  <a:lnTo>
                    <a:pt x="608" y="1790"/>
                  </a:lnTo>
                  <a:lnTo>
                    <a:pt x="624" y="1686"/>
                  </a:lnTo>
                  <a:lnTo>
                    <a:pt x="608" y="1596"/>
                  </a:lnTo>
                  <a:lnTo>
                    <a:pt x="591" y="1522"/>
                  </a:lnTo>
                  <a:lnTo>
                    <a:pt x="591" y="1433"/>
                  </a:lnTo>
                  <a:lnTo>
                    <a:pt x="608" y="1283"/>
                  </a:lnTo>
                  <a:lnTo>
                    <a:pt x="637" y="1098"/>
                  </a:lnTo>
                  <a:lnTo>
                    <a:pt x="675" y="887"/>
                  </a:lnTo>
                  <a:lnTo>
                    <a:pt x="719" y="652"/>
                  </a:lnTo>
                  <a:lnTo>
                    <a:pt x="741" y="424"/>
                  </a:lnTo>
                  <a:lnTo>
                    <a:pt x="698" y="201"/>
                  </a:lnTo>
                  <a:lnTo>
                    <a:pt x="637" y="72"/>
                  </a:lnTo>
                  <a:lnTo>
                    <a:pt x="530" y="5"/>
                  </a:lnTo>
                  <a:lnTo>
                    <a:pt x="447" y="0"/>
                  </a:lnTo>
                  <a:lnTo>
                    <a:pt x="334" y="17"/>
                  </a:lnTo>
                  <a:lnTo>
                    <a:pt x="207" y="78"/>
                  </a:lnTo>
                  <a:lnTo>
                    <a:pt x="207" y="78"/>
                  </a:lnTo>
                  <a:close/>
                </a:path>
              </a:pathLst>
            </a:custGeom>
            <a:solidFill>
              <a:srgbClr val="ffe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002760" y="4259160"/>
              <a:ext cx="414720" cy="722880"/>
            </a:xfrm>
            <a:custGeom>
              <a:avLst/>
              <a:gdLst/>
              <a:ahLst/>
              <a:rect l="l" t="t" r="r" b="b"/>
              <a:pathLst>
                <a:path w="652" h="998">
                  <a:moveTo>
                    <a:pt x="245" y="50"/>
                  </a:moveTo>
                  <a:lnTo>
                    <a:pt x="188" y="240"/>
                  </a:lnTo>
                  <a:lnTo>
                    <a:pt x="133" y="312"/>
                  </a:lnTo>
                  <a:lnTo>
                    <a:pt x="78" y="352"/>
                  </a:lnTo>
                  <a:lnTo>
                    <a:pt x="6" y="369"/>
                  </a:lnTo>
                  <a:lnTo>
                    <a:pt x="0" y="497"/>
                  </a:lnTo>
                  <a:lnTo>
                    <a:pt x="84" y="820"/>
                  </a:lnTo>
                  <a:lnTo>
                    <a:pt x="167" y="998"/>
                  </a:lnTo>
                  <a:lnTo>
                    <a:pt x="240" y="932"/>
                  </a:lnTo>
                  <a:lnTo>
                    <a:pt x="268" y="842"/>
                  </a:lnTo>
                  <a:lnTo>
                    <a:pt x="395" y="776"/>
                  </a:lnTo>
                  <a:lnTo>
                    <a:pt x="652" y="390"/>
                  </a:lnTo>
                  <a:lnTo>
                    <a:pt x="635" y="286"/>
                  </a:lnTo>
                  <a:lnTo>
                    <a:pt x="519" y="200"/>
                  </a:lnTo>
                  <a:lnTo>
                    <a:pt x="395" y="78"/>
                  </a:lnTo>
                  <a:lnTo>
                    <a:pt x="340" y="23"/>
                  </a:lnTo>
                  <a:lnTo>
                    <a:pt x="257" y="0"/>
                  </a:lnTo>
                  <a:lnTo>
                    <a:pt x="245" y="50"/>
                  </a:lnTo>
                  <a:lnTo>
                    <a:pt x="245" y="5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447920" y="3362040"/>
              <a:ext cx="2067120" cy="2514600"/>
            </a:xfrm>
            <a:custGeom>
              <a:avLst/>
              <a:gdLst/>
              <a:ahLst/>
              <a:rect l="l" t="t" r="r" b="b"/>
              <a:pathLst>
                <a:path w="3261" h="3469">
                  <a:moveTo>
                    <a:pt x="1302" y="219"/>
                  </a:moveTo>
                  <a:lnTo>
                    <a:pt x="1040" y="838"/>
                  </a:lnTo>
                  <a:lnTo>
                    <a:pt x="917" y="1245"/>
                  </a:lnTo>
                  <a:lnTo>
                    <a:pt x="743" y="1646"/>
                  </a:lnTo>
                  <a:lnTo>
                    <a:pt x="498" y="1964"/>
                  </a:lnTo>
                  <a:lnTo>
                    <a:pt x="133" y="2313"/>
                  </a:lnTo>
                  <a:lnTo>
                    <a:pt x="0" y="2587"/>
                  </a:lnTo>
                  <a:lnTo>
                    <a:pt x="582" y="2870"/>
                  </a:lnTo>
                  <a:lnTo>
                    <a:pt x="1040" y="3287"/>
                  </a:lnTo>
                  <a:lnTo>
                    <a:pt x="1354" y="3446"/>
                  </a:lnTo>
                  <a:lnTo>
                    <a:pt x="1609" y="3469"/>
                  </a:lnTo>
                  <a:lnTo>
                    <a:pt x="2046" y="2973"/>
                  </a:lnTo>
                  <a:lnTo>
                    <a:pt x="2341" y="2591"/>
                  </a:lnTo>
                  <a:lnTo>
                    <a:pt x="2679" y="2171"/>
                  </a:lnTo>
                  <a:lnTo>
                    <a:pt x="2869" y="1800"/>
                  </a:lnTo>
                  <a:lnTo>
                    <a:pt x="3037" y="1458"/>
                  </a:lnTo>
                  <a:lnTo>
                    <a:pt x="3261" y="1158"/>
                  </a:lnTo>
                  <a:lnTo>
                    <a:pt x="3050" y="1013"/>
                  </a:lnTo>
                  <a:lnTo>
                    <a:pt x="3210" y="802"/>
                  </a:lnTo>
                  <a:lnTo>
                    <a:pt x="3037" y="772"/>
                  </a:lnTo>
                  <a:lnTo>
                    <a:pt x="2622" y="582"/>
                  </a:lnTo>
                  <a:lnTo>
                    <a:pt x="2249" y="342"/>
                  </a:lnTo>
                  <a:lnTo>
                    <a:pt x="1761" y="124"/>
                  </a:lnTo>
                  <a:lnTo>
                    <a:pt x="1514" y="0"/>
                  </a:lnTo>
                  <a:lnTo>
                    <a:pt x="1302" y="219"/>
                  </a:lnTo>
                  <a:lnTo>
                    <a:pt x="1302" y="219"/>
                  </a:lnTo>
                  <a:close/>
                </a:path>
              </a:pathLst>
            </a:custGeom>
            <a:solidFill>
              <a:srgbClr val="f7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826360" y="4367880"/>
              <a:ext cx="240840" cy="182520"/>
            </a:xfrm>
            <a:custGeom>
              <a:avLst/>
              <a:gdLst/>
              <a:ahLst/>
              <a:rect l="l" t="t" r="r" b="b"/>
              <a:pathLst>
                <a:path w="381" h="250">
                  <a:moveTo>
                    <a:pt x="73" y="123"/>
                  </a:moveTo>
                  <a:lnTo>
                    <a:pt x="234" y="0"/>
                  </a:lnTo>
                  <a:lnTo>
                    <a:pt x="381" y="161"/>
                  </a:lnTo>
                  <a:lnTo>
                    <a:pt x="217" y="178"/>
                  </a:lnTo>
                  <a:lnTo>
                    <a:pt x="95" y="250"/>
                  </a:lnTo>
                  <a:lnTo>
                    <a:pt x="0" y="218"/>
                  </a:lnTo>
                  <a:lnTo>
                    <a:pt x="73" y="123"/>
                  </a:lnTo>
                  <a:lnTo>
                    <a:pt x="73" y="123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134160" y="4780800"/>
              <a:ext cx="183960" cy="173880"/>
            </a:xfrm>
            <a:custGeom>
              <a:avLst/>
              <a:gdLst/>
              <a:ahLst/>
              <a:rect l="l" t="t" r="r" b="b"/>
              <a:pathLst>
                <a:path w="289" h="239">
                  <a:moveTo>
                    <a:pt x="0" y="144"/>
                  </a:moveTo>
                  <a:lnTo>
                    <a:pt x="173" y="0"/>
                  </a:lnTo>
                  <a:lnTo>
                    <a:pt x="245" y="99"/>
                  </a:lnTo>
                  <a:lnTo>
                    <a:pt x="289" y="205"/>
                  </a:lnTo>
                  <a:lnTo>
                    <a:pt x="156" y="217"/>
                  </a:lnTo>
                  <a:lnTo>
                    <a:pt x="49" y="239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498680" y="3907080"/>
              <a:ext cx="1998720" cy="1869840"/>
            </a:xfrm>
            <a:custGeom>
              <a:avLst/>
              <a:gdLst/>
              <a:ahLst/>
              <a:rect l="l" t="t" r="r" b="b"/>
              <a:pathLst>
                <a:path w="3152" h="2579">
                  <a:moveTo>
                    <a:pt x="3029" y="0"/>
                  </a:moveTo>
                  <a:lnTo>
                    <a:pt x="2810" y="342"/>
                  </a:lnTo>
                  <a:lnTo>
                    <a:pt x="2658" y="707"/>
                  </a:lnTo>
                  <a:lnTo>
                    <a:pt x="2498" y="1070"/>
                  </a:lnTo>
                  <a:lnTo>
                    <a:pt x="2279" y="1420"/>
                  </a:lnTo>
                  <a:lnTo>
                    <a:pt x="2002" y="1851"/>
                  </a:lnTo>
                  <a:lnTo>
                    <a:pt x="1739" y="2186"/>
                  </a:lnTo>
                  <a:lnTo>
                    <a:pt x="1471" y="2448"/>
                  </a:lnTo>
                  <a:lnTo>
                    <a:pt x="924" y="2068"/>
                  </a:lnTo>
                  <a:lnTo>
                    <a:pt x="614" y="1834"/>
                  </a:lnTo>
                  <a:lnTo>
                    <a:pt x="218" y="1695"/>
                  </a:lnTo>
                  <a:lnTo>
                    <a:pt x="0" y="1659"/>
                  </a:lnTo>
                  <a:lnTo>
                    <a:pt x="758" y="2032"/>
                  </a:lnTo>
                  <a:lnTo>
                    <a:pt x="1034" y="2288"/>
                  </a:lnTo>
                  <a:lnTo>
                    <a:pt x="1405" y="2520"/>
                  </a:lnTo>
                  <a:lnTo>
                    <a:pt x="1737" y="2579"/>
                  </a:lnTo>
                  <a:lnTo>
                    <a:pt x="1994" y="2294"/>
                  </a:lnTo>
                  <a:lnTo>
                    <a:pt x="2243" y="2032"/>
                  </a:lnTo>
                  <a:lnTo>
                    <a:pt x="2542" y="1595"/>
                  </a:lnTo>
                  <a:lnTo>
                    <a:pt x="2745" y="1085"/>
                  </a:lnTo>
                  <a:lnTo>
                    <a:pt x="2956" y="553"/>
                  </a:lnTo>
                  <a:lnTo>
                    <a:pt x="3152" y="123"/>
                  </a:lnTo>
                  <a:lnTo>
                    <a:pt x="3029" y="0"/>
                  </a:lnTo>
                  <a:lnTo>
                    <a:pt x="3029" y="0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67360" y="2753280"/>
              <a:ext cx="497160" cy="517320"/>
            </a:xfrm>
            <a:custGeom>
              <a:avLst/>
              <a:gdLst/>
              <a:ahLst/>
              <a:rect l="l" t="t" r="r" b="b"/>
              <a:pathLst>
                <a:path w="786" h="713">
                  <a:moveTo>
                    <a:pt x="765" y="93"/>
                  </a:moveTo>
                  <a:lnTo>
                    <a:pt x="691" y="80"/>
                  </a:lnTo>
                  <a:lnTo>
                    <a:pt x="584" y="70"/>
                  </a:lnTo>
                  <a:lnTo>
                    <a:pt x="449" y="110"/>
                  </a:lnTo>
                  <a:lnTo>
                    <a:pt x="335" y="180"/>
                  </a:lnTo>
                  <a:lnTo>
                    <a:pt x="208" y="294"/>
                  </a:lnTo>
                  <a:lnTo>
                    <a:pt x="120" y="418"/>
                  </a:lnTo>
                  <a:lnTo>
                    <a:pt x="63" y="606"/>
                  </a:lnTo>
                  <a:lnTo>
                    <a:pt x="50" y="713"/>
                  </a:lnTo>
                  <a:lnTo>
                    <a:pt x="10" y="709"/>
                  </a:lnTo>
                  <a:lnTo>
                    <a:pt x="0" y="597"/>
                  </a:lnTo>
                  <a:lnTo>
                    <a:pt x="46" y="443"/>
                  </a:lnTo>
                  <a:lnTo>
                    <a:pt x="124" y="268"/>
                  </a:lnTo>
                  <a:lnTo>
                    <a:pt x="259" y="110"/>
                  </a:lnTo>
                  <a:lnTo>
                    <a:pt x="400" y="28"/>
                  </a:lnTo>
                  <a:lnTo>
                    <a:pt x="550" y="0"/>
                  </a:lnTo>
                  <a:lnTo>
                    <a:pt x="666" y="25"/>
                  </a:lnTo>
                  <a:lnTo>
                    <a:pt x="786" y="59"/>
                  </a:lnTo>
                  <a:lnTo>
                    <a:pt x="765" y="93"/>
                  </a:lnTo>
                  <a:lnTo>
                    <a:pt x="76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982600" y="2842920"/>
              <a:ext cx="351360" cy="1809000"/>
            </a:xfrm>
            <a:custGeom>
              <a:avLst/>
              <a:gdLst/>
              <a:ahLst/>
              <a:rect l="l" t="t" r="r" b="b"/>
              <a:pathLst>
                <a:path w="553" h="2496">
                  <a:moveTo>
                    <a:pt x="128" y="23"/>
                  </a:moveTo>
                  <a:lnTo>
                    <a:pt x="84" y="57"/>
                  </a:lnTo>
                  <a:lnTo>
                    <a:pt x="97" y="97"/>
                  </a:lnTo>
                  <a:lnTo>
                    <a:pt x="0" y="308"/>
                  </a:lnTo>
                  <a:lnTo>
                    <a:pt x="44" y="339"/>
                  </a:lnTo>
                  <a:lnTo>
                    <a:pt x="101" y="304"/>
                  </a:lnTo>
                  <a:lnTo>
                    <a:pt x="88" y="379"/>
                  </a:lnTo>
                  <a:lnTo>
                    <a:pt x="114" y="445"/>
                  </a:lnTo>
                  <a:lnTo>
                    <a:pt x="167" y="506"/>
                  </a:lnTo>
                  <a:lnTo>
                    <a:pt x="211" y="637"/>
                  </a:lnTo>
                  <a:lnTo>
                    <a:pt x="245" y="801"/>
                  </a:lnTo>
                  <a:lnTo>
                    <a:pt x="255" y="958"/>
                  </a:lnTo>
                  <a:lnTo>
                    <a:pt x="268" y="1036"/>
                  </a:lnTo>
                  <a:lnTo>
                    <a:pt x="285" y="1055"/>
                  </a:lnTo>
                  <a:lnTo>
                    <a:pt x="325" y="1050"/>
                  </a:lnTo>
                  <a:lnTo>
                    <a:pt x="352" y="1116"/>
                  </a:lnTo>
                  <a:lnTo>
                    <a:pt x="325" y="1186"/>
                  </a:lnTo>
                  <a:lnTo>
                    <a:pt x="255" y="1274"/>
                  </a:lnTo>
                  <a:lnTo>
                    <a:pt x="255" y="1183"/>
                  </a:lnTo>
                  <a:lnTo>
                    <a:pt x="219" y="1186"/>
                  </a:lnTo>
                  <a:lnTo>
                    <a:pt x="205" y="1293"/>
                  </a:lnTo>
                  <a:lnTo>
                    <a:pt x="154" y="1468"/>
                  </a:lnTo>
                  <a:lnTo>
                    <a:pt x="118" y="1740"/>
                  </a:lnTo>
                  <a:lnTo>
                    <a:pt x="84" y="1970"/>
                  </a:lnTo>
                  <a:lnTo>
                    <a:pt x="44" y="2131"/>
                  </a:lnTo>
                  <a:lnTo>
                    <a:pt x="13" y="2224"/>
                  </a:lnTo>
                  <a:lnTo>
                    <a:pt x="21" y="2241"/>
                  </a:lnTo>
                  <a:lnTo>
                    <a:pt x="74" y="2205"/>
                  </a:lnTo>
                  <a:lnTo>
                    <a:pt x="150" y="2044"/>
                  </a:lnTo>
                  <a:lnTo>
                    <a:pt x="154" y="2070"/>
                  </a:lnTo>
                  <a:lnTo>
                    <a:pt x="114" y="2184"/>
                  </a:lnTo>
                  <a:lnTo>
                    <a:pt x="198" y="2171"/>
                  </a:lnTo>
                  <a:lnTo>
                    <a:pt x="276" y="2188"/>
                  </a:lnTo>
                  <a:lnTo>
                    <a:pt x="335" y="2245"/>
                  </a:lnTo>
                  <a:lnTo>
                    <a:pt x="342" y="2293"/>
                  </a:lnTo>
                  <a:lnTo>
                    <a:pt x="302" y="2342"/>
                  </a:lnTo>
                  <a:lnTo>
                    <a:pt x="251" y="2359"/>
                  </a:lnTo>
                  <a:lnTo>
                    <a:pt x="211" y="2413"/>
                  </a:lnTo>
                  <a:lnTo>
                    <a:pt x="150" y="2443"/>
                  </a:lnTo>
                  <a:lnTo>
                    <a:pt x="101" y="2460"/>
                  </a:lnTo>
                  <a:lnTo>
                    <a:pt x="131" y="2496"/>
                  </a:lnTo>
                  <a:lnTo>
                    <a:pt x="211" y="2490"/>
                  </a:lnTo>
                  <a:lnTo>
                    <a:pt x="263" y="2456"/>
                  </a:lnTo>
                  <a:lnTo>
                    <a:pt x="335" y="2439"/>
                  </a:lnTo>
                  <a:lnTo>
                    <a:pt x="413" y="2416"/>
                  </a:lnTo>
                  <a:lnTo>
                    <a:pt x="430" y="2395"/>
                  </a:lnTo>
                  <a:lnTo>
                    <a:pt x="363" y="2319"/>
                  </a:lnTo>
                  <a:lnTo>
                    <a:pt x="504" y="2376"/>
                  </a:lnTo>
                  <a:lnTo>
                    <a:pt x="540" y="2352"/>
                  </a:lnTo>
                  <a:lnTo>
                    <a:pt x="553" y="2316"/>
                  </a:lnTo>
                  <a:lnTo>
                    <a:pt x="517" y="2272"/>
                  </a:lnTo>
                  <a:lnTo>
                    <a:pt x="536" y="2238"/>
                  </a:lnTo>
                  <a:lnTo>
                    <a:pt x="430" y="2198"/>
                  </a:lnTo>
                  <a:lnTo>
                    <a:pt x="321" y="2127"/>
                  </a:lnTo>
                  <a:lnTo>
                    <a:pt x="238" y="2048"/>
                  </a:lnTo>
                  <a:lnTo>
                    <a:pt x="192" y="1994"/>
                  </a:lnTo>
                  <a:lnTo>
                    <a:pt x="141" y="1981"/>
                  </a:lnTo>
                  <a:lnTo>
                    <a:pt x="167" y="1854"/>
                  </a:lnTo>
                  <a:lnTo>
                    <a:pt x="179" y="1713"/>
                  </a:lnTo>
                  <a:lnTo>
                    <a:pt x="211" y="1548"/>
                  </a:lnTo>
                  <a:lnTo>
                    <a:pt x="232" y="1458"/>
                  </a:lnTo>
                  <a:lnTo>
                    <a:pt x="299" y="1384"/>
                  </a:lnTo>
                  <a:lnTo>
                    <a:pt x="417" y="1209"/>
                  </a:lnTo>
                  <a:lnTo>
                    <a:pt x="436" y="1103"/>
                  </a:lnTo>
                  <a:lnTo>
                    <a:pt x="417" y="1042"/>
                  </a:lnTo>
                  <a:lnTo>
                    <a:pt x="346" y="994"/>
                  </a:lnTo>
                  <a:lnTo>
                    <a:pt x="447" y="721"/>
                  </a:lnTo>
                  <a:lnTo>
                    <a:pt x="479" y="554"/>
                  </a:lnTo>
                  <a:lnTo>
                    <a:pt x="479" y="445"/>
                  </a:lnTo>
                  <a:lnTo>
                    <a:pt x="453" y="400"/>
                  </a:lnTo>
                  <a:lnTo>
                    <a:pt x="456" y="325"/>
                  </a:lnTo>
                  <a:lnTo>
                    <a:pt x="399" y="282"/>
                  </a:lnTo>
                  <a:lnTo>
                    <a:pt x="377" y="198"/>
                  </a:lnTo>
                  <a:lnTo>
                    <a:pt x="316" y="154"/>
                  </a:lnTo>
                  <a:lnTo>
                    <a:pt x="285" y="74"/>
                  </a:lnTo>
                  <a:lnTo>
                    <a:pt x="192" y="54"/>
                  </a:lnTo>
                  <a:lnTo>
                    <a:pt x="154" y="0"/>
                  </a:lnTo>
                  <a:lnTo>
                    <a:pt x="128" y="23"/>
                  </a:lnTo>
                  <a:lnTo>
                    <a:pt x="12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461400" y="2985120"/>
              <a:ext cx="235800" cy="231840"/>
            </a:xfrm>
            <a:custGeom>
              <a:avLst/>
              <a:gdLst/>
              <a:ahLst/>
              <a:rect l="l" t="t" r="r" b="b"/>
              <a:pathLst>
                <a:path w="373" h="319">
                  <a:moveTo>
                    <a:pt x="257" y="34"/>
                  </a:moveTo>
                  <a:lnTo>
                    <a:pt x="148" y="82"/>
                  </a:lnTo>
                  <a:lnTo>
                    <a:pt x="61" y="177"/>
                  </a:lnTo>
                  <a:lnTo>
                    <a:pt x="0" y="287"/>
                  </a:lnTo>
                  <a:lnTo>
                    <a:pt x="34" y="319"/>
                  </a:lnTo>
                  <a:lnTo>
                    <a:pt x="118" y="223"/>
                  </a:lnTo>
                  <a:lnTo>
                    <a:pt x="207" y="139"/>
                  </a:lnTo>
                  <a:lnTo>
                    <a:pt x="336" y="72"/>
                  </a:lnTo>
                  <a:lnTo>
                    <a:pt x="373" y="0"/>
                  </a:lnTo>
                  <a:lnTo>
                    <a:pt x="257" y="34"/>
                  </a:lnTo>
                  <a:lnTo>
                    <a:pt x="25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425040" y="3305520"/>
              <a:ext cx="444960" cy="1218960"/>
            </a:xfrm>
            <a:custGeom>
              <a:avLst/>
              <a:gdLst/>
              <a:ahLst/>
              <a:rect l="l" t="t" r="r" b="b"/>
              <a:pathLst>
                <a:path w="702" h="1682">
                  <a:moveTo>
                    <a:pt x="162" y="10"/>
                  </a:moveTo>
                  <a:lnTo>
                    <a:pt x="118" y="167"/>
                  </a:lnTo>
                  <a:lnTo>
                    <a:pt x="95" y="344"/>
                  </a:lnTo>
                  <a:lnTo>
                    <a:pt x="78" y="563"/>
                  </a:lnTo>
                  <a:lnTo>
                    <a:pt x="4" y="589"/>
                  </a:lnTo>
                  <a:lnTo>
                    <a:pt x="0" y="677"/>
                  </a:lnTo>
                  <a:lnTo>
                    <a:pt x="25" y="774"/>
                  </a:lnTo>
                  <a:lnTo>
                    <a:pt x="78" y="888"/>
                  </a:lnTo>
                  <a:lnTo>
                    <a:pt x="118" y="1072"/>
                  </a:lnTo>
                  <a:lnTo>
                    <a:pt x="205" y="1310"/>
                  </a:lnTo>
                  <a:lnTo>
                    <a:pt x="323" y="1511"/>
                  </a:lnTo>
                  <a:lnTo>
                    <a:pt x="456" y="1631"/>
                  </a:lnTo>
                  <a:lnTo>
                    <a:pt x="565" y="1679"/>
                  </a:lnTo>
                  <a:lnTo>
                    <a:pt x="658" y="1682"/>
                  </a:lnTo>
                  <a:lnTo>
                    <a:pt x="702" y="1652"/>
                  </a:lnTo>
                  <a:lnTo>
                    <a:pt x="675" y="1631"/>
                  </a:lnTo>
                  <a:lnTo>
                    <a:pt x="605" y="1618"/>
                  </a:lnTo>
                  <a:lnTo>
                    <a:pt x="500" y="1561"/>
                  </a:lnTo>
                  <a:lnTo>
                    <a:pt x="363" y="1403"/>
                  </a:lnTo>
                  <a:lnTo>
                    <a:pt x="249" y="1186"/>
                  </a:lnTo>
                  <a:lnTo>
                    <a:pt x="183" y="954"/>
                  </a:lnTo>
                  <a:lnTo>
                    <a:pt x="141" y="713"/>
                  </a:lnTo>
                  <a:lnTo>
                    <a:pt x="141" y="466"/>
                  </a:lnTo>
                  <a:lnTo>
                    <a:pt x="162" y="228"/>
                  </a:lnTo>
                  <a:lnTo>
                    <a:pt x="196" y="70"/>
                  </a:lnTo>
                  <a:lnTo>
                    <a:pt x="215" y="0"/>
                  </a:lnTo>
                  <a:lnTo>
                    <a:pt x="162" y="10"/>
                  </a:lnTo>
                  <a:lnTo>
                    <a:pt x="1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578400" y="3670560"/>
              <a:ext cx="63000" cy="99720"/>
            </a:xfrm>
            <a:custGeom>
              <a:avLst/>
              <a:gdLst/>
              <a:ahLst/>
              <a:rect l="l" t="t" r="r" b="b"/>
              <a:pathLst>
                <a:path w="101" h="137">
                  <a:moveTo>
                    <a:pt x="48" y="0"/>
                  </a:moveTo>
                  <a:lnTo>
                    <a:pt x="0" y="30"/>
                  </a:lnTo>
                  <a:lnTo>
                    <a:pt x="0" y="83"/>
                  </a:lnTo>
                  <a:lnTo>
                    <a:pt x="27" y="131"/>
                  </a:lnTo>
                  <a:lnTo>
                    <a:pt x="71" y="137"/>
                  </a:lnTo>
                  <a:lnTo>
                    <a:pt x="101" y="97"/>
                  </a:lnTo>
                  <a:lnTo>
                    <a:pt x="88" y="2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397320" y="3611160"/>
              <a:ext cx="61920" cy="98280"/>
            </a:xfrm>
            <a:custGeom>
              <a:avLst/>
              <a:gdLst/>
              <a:ahLst/>
              <a:rect l="l" t="t" r="r" b="b"/>
              <a:pathLst>
                <a:path w="97" h="137">
                  <a:moveTo>
                    <a:pt x="40" y="0"/>
                  </a:moveTo>
                  <a:lnTo>
                    <a:pt x="0" y="44"/>
                  </a:lnTo>
                  <a:lnTo>
                    <a:pt x="14" y="120"/>
                  </a:lnTo>
                  <a:lnTo>
                    <a:pt x="61" y="137"/>
                  </a:lnTo>
                  <a:lnTo>
                    <a:pt x="97" y="110"/>
                  </a:lnTo>
                  <a:lnTo>
                    <a:pt x="94" y="50"/>
                  </a:lnTo>
                  <a:lnTo>
                    <a:pt x="61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414600" y="4154760"/>
              <a:ext cx="149400" cy="9828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0" y="49"/>
                  </a:moveTo>
                  <a:lnTo>
                    <a:pt x="95" y="36"/>
                  </a:lnTo>
                  <a:lnTo>
                    <a:pt x="175" y="9"/>
                  </a:lnTo>
                  <a:lnTo>
                    <a:pt x="219" y="0"/>
                  </a:lnTo>
                  <a:lnTo>
                    <a:pt x="236" y="40"/>
                  </a:lnTo>
                  <a:lnTo>
                    <a:pt x="222" y="101"/>
                  </a:lnTo>
                  <a:lnTo>
                    <a:pt x="158" y="137"/>
                  </a:lnTo>
                  <a:lnTo>
                    <a:pt x="101" y="127"/>
                  </a:lnTo>
                  <a:lnTo>
                    <a:pt x="74" y="87"/>
                  </a:lnTo>
                  <a:lnTo>
                    <a:pt x="8" y="8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42600" y="4314240"/>
              <a:ext cx="147960" cy="153720"/>
            </a:xfrm>
            <a:custGeom>
              <a:avLst/>
              <a:gdLst/>
              <a:ahLst/>
              <a:rect l="l" t="t" r="r" b="b"/>
              <a:pathLst>
                <a:path w="234" h="211">
                  <a:moveTo>
                    <a:pt x="156" y="0"/>
                  </a:moveTo>
                  <a:lnTo>
                    <a:pt x="76" y="4"/>
                  </a:lnTo>
                  <a:lnTo>
                    <a:pt x="28" y="40"/>
                  </a:lnTo>
                  <a:lnTo>
                    <a:pt x="0" y="92"/>
                  </a:lnTo>
                  <a:lnTo>
                    <a:pt x="4" y="134"/>
                  </a:lnTo>
                  <a:lnTo>
                    <a:pt x="42" y="143"/>
                  </a:lnTo>
                  <a:lnTo>
                    <a:pt x="89" y="132"/>
                  </a:lnTo>
                  <a:lnTo>
                    <a:pt x="116" y="202"/>
                  </a:lnTo>
                  <a:lnTo>
                    <a:pt x="163" y="211"/>
                  </a:lnTo>
                  <a:lnTo>
                    <a:pt x="213" y="181"/>
                  </a:lnTo>
                  <a:lnTo>
                    <a:pt x="217" y="101"/>
                  </a:lnTo>
                  <a:lnTo>
                    <a:pt x="234" y="4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835000" y="4377960"/>
              <a:ext cx="144360" cy="140400"/>
            </a:xfrm>
            <a:custGeom>
              <a:avLst/>
              <a:gdLst/>
              <a:ahLst/>
              <a:rect l="l" t="t" r="r" b="b"/>
              <a:pathLst>
                <a:path w="228" h="194">
                  <a:moveTo>
                    <a:pt x="4" y="93"/>
                  </a:moveTo>
                  <a:lnTo>
                    <a:pt x="97" y="0"/>
                  </a:lnTo>
                  <a:lnTo>
                    <a:pt x="114" y="17"/>
                  </a:lnTo>
                  <a:lnTo>
                    <a:pt x="181" y="74"/>
                  </a:lnTo>
                  <a:lnTo>
                    <a:pt x="228" y="133"/>
                  </a:lnTo>
                  <a:lnTo>
                    <a:pt x="198" y="150"/>
                  </a:lnTo>
                  <a:lnTo>
                    <a:pt x="211" y="184"/>
                  </a:lnTo>
                  <a:lnTo>
                    <a:pt x="164" y="194"/>
                  </a:lnTo>
                  <a:lnTo>
                    <a:pt x="97" y="175"/>
                  </a:lnTo>
                  <a:lnTo>
                    <a:pt x="40" y="180"/>
                  </a:lnTo>
                  <a:lnTo>
                    <a:pt x="84" y="150"/>
                  </a:lnTo>
                  <a:lnTo>
                    <a:pt x="120" y="144"/>
                  </a:lnTo>
                  <a:lnTo>
                    <a:pt x="168" y="144"/>
                  </a:lnTo>
                  <a:lnTo>
                    <a:pt x="84" y="66"/>
                  </a:lnTo>
                  <a:lnTo>
                    <a:pt x="0" y="127"/>
                  </a:lnTo>
                  <a:lnTo>
                    <a:pt x="4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523600" y="3425760"/>
              <a:ext cx="418320" cy="933480"/>
            </a:xfrm>
            <a:custGeom>
              <a:avLst/>
              <a:gdLst/>
              <a:ahLst/>
              <a:rect l="l" t="t" r="r" b="b"/>
              <a:pathLst>
                <a:path w="660" h="1287">
                  <a:moveTo>
                    <a:pt x="59" y="1287"/>
                  </a:moveTo>
                  <a:lnTo>
                    <a:pt x="150" y="1076"/>
                  </a:lnTo>
                  <a:lnTo>
                    <a:pt x="282" y="690"/>
                  </a:lnTo>
                  <a:lnTo>
                    <a:pt x="426" y="369"/>
                  </a:lnTo>
                  <a:lnTo>
                    <a:pt x="546" y="164"/>
                  </a:lnTo>
                  <a:lnTo>
                    <a:pt x="660" y="35"/>
                  </a:lnTo>
                  <a:lnTo>
                    <a:pt x="633" y="0"/>
                  </a:lnTo>
                  <a:lnTo>
                    <a:pt x="572" y="10"/>
                  </a:lnTo>
                  <a:lnTo>
                    <a:pt x="519" y="80"/>
                  </a:lnTo>
                  <a:lnTo>
                    <a:pt x="378" y="305"/>
                  </a:lnTo>
                  <a:lnTo>
                    <a:pt x="234" y="624"/>
                  </a:lnTo>
                  <a:lnTo>
                    <a:pt x="147" y="875"/>
                  </a:lnTo>
                  <a:lnTo>
                    <a:pt x="89" y="1093"/>
                  </a:lnTo>
                  <a:lnTo>
                    <a:pt x="32" y="1230"/>
                  </a:lnTo>
                  <a:lnTo>
                    <a:pt x="0" y="1280"/>
                  </a:lnTo>
                  <a:lnTo>
                    <a:pt x="59" y="1287"/>
                  </a:lnTo>
                  <a:lnTo>
                    <a:pt x="59" y="1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597680" y="3438720"/>
              <a:ext cx="889920" cy="496800"/>
            </a:xfrm>
            <a:custGeom>
              <a:avLst/>
              <a:gdLst/>
              <a:ahLst/>
              <a:rect l="l" t="t" r="r" b="b"/>
              <a:pathLst>
                <a:path w="1403" h="686">
                  <a:moveTo>
                    <a:pt x="30" y="0"/>
                  </a:moveTo>
                  <a:lnTo>
                    <a:pt x="152" y="57"/>
                  </a:lnTo>
                  <a:lnTo>
                    <a:pt x="390" y="123"/>
                  </a:lnTo>
                  <a:lnTo>
                    <a:pt x="719" y="307"/>
                  </a:lnTo>
                  <a:lnTo>
                    <a:pt x="947" y="435"/>
                  </a:lnTo>
                  <a:lnTo>
                    <a:pt x="1276" y="572"/>
                  </a:lnTo>
                  <a:lnTo>
                    <a:pt x="1403" y="629"/>
                  </a:lnTo>
                  <a:lnTo>
                    <a:pt x="1390" y="669"/>
                  </a:lnTo>
                  <a:lnTo>
                    <a:pt x="1316" y="686"/>
                  </a:lnTo>
                  <a:lnTo>
                    <a:pt x="1110" y="629"/>
                  </a:lnTo>
                  <a:lnTo>
                    <a:pt x="711" y="448"/>
                  </a:lnTo>
                  <a:lnTo>
                    <a:pt x="306" y="207"/>
                  </a:lnTo>
                  <a:lnTo>
                    <a:pt x="51" y="102"/>
                  </a:lnTo>
                  <a:lnTo>
                    <a:pt x="0" y="3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465200" y="3903840"/>
              <a:ext cx="1076760" cy="1945080"/>
            </a:xfrm>
            <a:custGeom>
              <a:avLst/>
              <a:gdLst/>
              <a:ahLst/>
              <a:rect l="l" t="t" r="r" b="b"/>
              <a:pathLst>
                <a:path w="1698" h="2684">
                  <a:moveTo>
                    <a:pt x="1592" y="17"/>
                  </a:moveTo>
                  <a:lnTo>
                    <a:pt x="1447" y="188"/>
                  </a:lnTo>
                  <a:lnTo>
                    <a:pt x="1309" y="433"/>
                  </a:lnTo>
                  <a:lnTo>
                    <a:pt x="1179" y="798"/>
                  </a:lnTo>
                  <a:lnTo>
                    <a:pt x="1004" y="1230"/>
                  </a:lnTo>
                  <a:lnTo>
                    <a:pt x="812" y="1585"/>
                  </a:lnTo>
                  <a:lnTo>
                    <a:pt x="605" y="1901"/>
                  </a:lnTo>
                  <a:lnTo>
                    <a:pt x="373" y="2188"/>
                  </a:lnTo>
                  <a:lnTo>
                    <a:pt x="166" y="2416"/>
                  </a:lnTo>
                  <a:lnTo>
                    <a:pt x="4" y="2597"/>
                  </a:lnTo>
                  <a:lnTo>
                    <a:pt x="0" y="2652"/>
                  </a:lnTo>
                  <a:lnTo>
                    <a:pt x="42" y="2684"/>
                  </a:lnTo>
                  <a:lnTo>
                    <a:pt x="115" y="2648"/>
                  </a:lnTo>
                  <a:lnTo>
                    <a:pt x="276" y="2503"/>
                  </a:lnTo>
                  <a:lnTo>
                    <a:pt x="276" y="2433"/>
                  </a:lnTo>
                  <a:lnTo>
                    <a:pt x="693" y="2047"/>
                  </a:lnTo>
                  <a:lnTo>
                    <a:pt x="820" y="1901"/>
                  </a:lnTo>
                  <a:lnTo>
                    <a:pt x="913" y="1787"/>
                  </a:lnTo>
                  <a:lnTo>
                    <a:pt x="995" y="1722"/>
                  </a:lnTo>
                  <a:lnTo>
                    <a:pt x="1119" y="1602"/>
                  </a:lnTo>
                  <a:lnTo>
                    <a:pt x="1282" y="1414"/>
                  </a:lnTo>
                  <a:lnTo>
                    <a:pt x="1430" y="1260"/>
                  </a:lnTo>
                  <a:lnTo>
                    <a:pt x="1541" y="1160"/>
                  </a:lnTo>
                  <a:lnTo>
                    <a:pt x="1518" y="1093"/>
                  </a:lnTo>
                  <a:lnTo>
                    <a:pt x="1478" y="1085"/>
                  </a:lnTo>
                  <a:lnTo>
                    <a:pt x="1427" y="1120"/>
                  </a:lnTo>
                  <a:lnTo>
                    <a:pt x="1404" y="1053"/>
                  </a:lnTo>
                  <a:lnTo>
                    <a:pt x="1383" y="1019"/>
                  </a:lnTo>
                  <a:lnTo>
                    <a:pt x="1330" y="1006"/>
                  </a:lnTo>
                  <a:lnTo>
                    <a:pt x="1497" y="690"/>
                  </a:lnTo>
                  <a:lnTo>
                    <a:pt x="1571" y="570"/>
                  </a:lnTo>
                  <a:lnTo>
                    <a:pt x="1698" y="447"/>
                  </a:lnTo>
                  <a:lnTo>
                    <a:pt x="1679" y="373"/>
                  </a:lnTo>
                  <a:lnTo>
                    <a:pt x="1619" y="363"/>
                  </a:lnTo>
                  <a:lnTo>
                    <a:pt x="1544" y="439"/>
                  </a:lnTo>
                  <a:lnTo>
                    <a:pt x="1370" y="671"/>
                  </a:lnTo>
                  <a:lnTo>
                    <a:pt x="1193" y="1120"/>
                  </a:lnTo>
                  <a:lnTo>
                    <a:pt x="987" y="1551"/>
                  </a:lnTo>
                  <a:lnTo>
                    <a:pt x="869" y="1722"/>
                  </a:lnTo>
                  <a:lnTo>
                    <a:pt x="763" y="1836"/>
                  </a:lnTo>
                  <a:lnTo>
                    <a:pt x="767" y="1791"/>
                  </a:lnTo>
                  <a:lnTo>
                    <a:pt x="953" y="1488"/>
                  </a:lnTo>
                  <a:lnTo>
                    <a:pt x="1185" y="1013"/>
                  </a:lnTo>
                  <a:lnTo>
                    <a:pt x="1409" y="439"/>
                  </a:lnTo>
                  <a:lnTo>
                    <a:pt x="1544" y="184"/>
                  </a:lnTo>
                  <a:lnTo>
                    <a:pt x="1619" y="105"/>
                  </a:lnTo>
                  <a:lnTo>
                    <a:pt x="1676" y="48"/>
                  </a:lnTo>
                  <a:lnTo>
                    <a:pt x="1641" y="0"/>
                  </a:lnTo>
                  <a:lnTo>
                    <a:pt x="1592" y="17"/>
                  </a:lnTo>
                  <a:lnTo>
                    <a:pt x="159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149640" y="4559040"/>
              <a:ext cx="255960" cy="414720"/>
            </a:xfrm>
            <a:custGeom>
              <a:avLst/>
              <a:gdLst/>
              <a:ahLst/>
              <a:rect l="l" t="t" r="r" b="b"/>
              <a:pathLst>
                <a:path w="403" h="570">
                  <a:moveTo>
                    <a:pt x="13" y="0"/>
                  </a:moveTo>
                  <a:lnTo>
                    <a:pt x="0" y="47"/>
                  </a:lnTo>
                  <a:lnTo>
                    <a:pt x="10" y="148"/>
                  </a:lnTo>
                  <a:lnTo>
                    <a:pt x="80" y="365"/>
                  </a:lnTo>
                  <a:lnTo>
                    <a:pt x="158" y="523"/>
                  </a:lnTo>
                  <a:lnTo>
                    <a:pt x="198" y="570"/>
                  </a:lnTo>
                  <a:lnTo>
                    <a:pt x="299" y="523"/>
                  </a:lnTo>
                  <a:lnTo>
                    <a:pt x="403" y="509"/>
                  </a:lnTo>
                  <a:lnTo>
                    <a:pt x="293" y="486"/>
                  </a:lnTo>
                  <a:lnTo>
                    <a:pt x="219" y="473"/>
                  </a:lnTo>
                  <a:lnTo>
                    <a:pt x="127" y="281"/>
                  </a:lnTo>
                  <a:lnTo>
                    <a:pt x="67" y="87"/>
                  </a:lnTo>
                  <a:lnTo>
                    <a:pt x="44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191400" y="4514400"/>
              <a:ext cx="160920" cy="286920"/>
            </a:xfrm>
            <a:custGeom>
              <a:avLst/>
              <a:gdLst/>
              <a:ahLst/>
              <a:rect l="l" t="t" r="r" b="b"/>
              <a:pathLst>
                <a:path w="255" h="395">
                  <a:moveTo>
                    <a:pt x="0" y="0"/>
                  </a:moveTo>
                  <a:lnTo>
                    <a:pt x="17" y="116"/>
                  </a:lnTo>
                  <a:lnTo>
                    <a:pt x="87" y="247"/>
                  </a:lnTo>
                  <a:lnTo>
                    <a:pt x="167" y="348"/>
                  </a:lnTo>
                  <a:lnTo>
                    <a:pt x="228" y="395"/>
                  </a:lnTo>
                  <a:lnTo>
                    <a:pt x="255" y="348"/>
                  </a:lnTo>
                  <a:lnTo>
                    <a:pt x="167" y="238"/>
                  </a:lnTo>
                  <a:lnTo>
                    <a:pt x="87" y="97"/>
                  </a:lnTo>
                  <a:lnTo>
                    <a:pt x="61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009960" y="4575240"/>
              <a:ext cx="162360" cy="257760"/>
            </a:xfrm>
            <a:custGeom>
              <a:avLst/>
              <a:gdLst/>
              <a:ahLst/>
              <a:rect l="l" t="t" r="r" b="b"/>
              <a:pathLst>
                <a:path w="255" h="355">
                  <a:moveTo>
                    <a:pt x="0" y="304"/>
                  </a:moveTo>
                  <a:lnTo>
                    <a:pt x="211" y="0"/>
                  </a:lnTo>
                  <a:lnTo>
                    <a:pt x="255" y="26"/>
                  </a:lnTo>
                  <a:lnTo>
                    <a:pt x="158" y="207"/>
                  </a:lnTo>
                  <a:lnTo>
                    <a:pt x="34" y="355"/>
                  </a:lnTo>
                  <a:lnTo>
                    <a:pt x="0" y="30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155040" y="4827240"/>
              <a:ext cx="50400" cy="6228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26" y="0"/>
                  </a:moveTo>
                  <a:lnTo>
                    <a:pt x="80" y="87"/>
                  </a:lnTo>
                  <a:lnTo>
                    <a:pt x="23" y="74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291840" y="4982400"/>
              <a:ext cx="186120" cy="239040"/>
            </a:xfrm>
            <a:custGeom>
              <a:avLst/>
              <a:gdLst/>
              <a:ahLst/>
              <a:rect l="l" t="t" r="r" b="b"/>
              <a:pathLst>
                <a:path w="295" h="329">
                  <a:moveTo>
                    <a:pt x="232" y="0"/>
                  </a:moveTo>
                  <a:lnTo>
                    <a:pt x="131" y="101"/>
                  </a:lnTo>
                  <a:lnTo>
                    <a:pt x="44" y="225"/>
                  </a:lnTo>
                  <a:lnTo>
                    <a:pt x="0" y="325"/>
                  </a:lnTo>
                  <a:lnTo>
                    <a:pt x="67" y="329"/>
                  </a:lnTo>
                  <a:lnTo>
                    <a:pt x="120" y="246"/>
                  </a:lnTo>
                  <a:lnTo>
                    <a:pt x="154" y="175"/>
                  </a:lnTo>
                  <a:lnTo>
                    <a:pt x="232" y="78"/>
                  </a:lnTo>
                  <a:lnTo>
                    <a:pt x="295" y="10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585880" y="5218920"/>
              <a:ext cx="826560" cy="614520"/>
            </a:xfrm>
            <a:custGeom>
              <a:avLst/>
              <a:gdLst/>
              <a:ahLst/>
              <a:rect l="l" t="t" r="r" b="b"/>
              <a:pathLst>
                <a:path w="1304" h="848">
                  <a:moveTo>
                    <a:pt x="26" y="0"/>
                  </a:moveTo>
                  <a:lnTo>
                    <a:pt x="228" y="63"/>
                  </a:lnTo>
                  <a:lnTo>
                    <a:pt x="431" y="168"/>
                  </a:lnTo>
                  <a:lnTo>
                    <a:pt x="633" y="339"/>
                  </a:lnTo>
                  <a:lnTo>
                    <a:pt x="821" y="506"/>
                  </a:lnTo>
                  <a:lnTo>
                    <a:pt x="1032" y="647"/>
                  </a:lnTo>
                  <a:lnTo>
                    <a:pt x="1243" y="747"/>
                  </a:lnTo>
                  <a:lnTo>
                    <a:pt x="1304" y="778"/>
                  </a:lnTo>
                  <a:lnTo>
                    <a:pt x="1300" y="818"/>
                  </a:lnTo>
                  <a:lnTo>
                    <a:pt x="1251" y="848"/>
                  </a:lnTo>
                  <a:lnTo>
                    <a:pt x="1177" y="839"/>
                  </a:lnTo>
                  <a:lnTo>
                    <a:pt x="979" y="734"/>
                  </a:lnTo>
                  <a:lnTo>
                    <a:pt x="737" y="536"/>
                  </a:lnTo>
                  <a:lnTo>
                    <a:pt x="469" y="305"/>
                  </a:lnTo>
                  <a:lnTo>
                    <a:pt x="241" y="168"/>
                  </a:lnTo>
                  <a:lnTo>
                    <a:pt x="66" y="97"/>
                  </a:lnTo>
                  <a:lnTo>
                    <a:pt x="0" y="61"/>
                  </a:lnTo>
                  <a:lnTo>
                    <a:pt x="5" y="23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023200" y="3889440"/>
              <a:ext cx="960120" cy="1478160"/>
            </a:xfrm>
            <a:custGeom>
              <a:avLst/>
              <a:gdLst/>
              <a:ahLst/>
              <a:rect l="l" t="t" r="r" b="b"/>
              <a:pathLst>
                <a:path w="1513" h="2042">
                  <a:moveTo>
                    <a:pt x="644" y="272"/>
                  </a:moveTo>
                  <a:lnTo>
                    <a:pt x="661" y="414"/>
                  </a:lnTo>
                  <a:lnTo>
                    <a:pt x="661" y="574"/>
                  </a:lnTo>
                  <a:lnTo>
                    <a:pt x="669" y="793"/>
                  </a:lnTo>
                  <a:lnTo>
                    <a:pt x="661" y="916"/>
                  </a:lnTo>
                  <a:lnTo>
                    <a:pt x="349" y="1059"/>
                  </a:lnTo>
                  <a:lnTo>
                    <a:pt x="136" y="1177"/>
                  </a:lnTo>
                  <a:lnTo>
                    <a:pt x="0" y="1296"/>
                  </a:lnTo>
                  <a:lnTo>
                    <a:pt x="58" y="1372"/>
                  </a:lnTo>
                  <a:lnTo>
                    <a:pt x="5" y="1431"/>
                  </a:lnTo>
                  <a:lnTo>
                    <a:pt x="47" y="1509"/>
                  </a:lnTo>
                  <a:lnTo>
                    <a:pt x="100" y="1551"/>
                  </a:lnTo>
                  <a:lnTo>
                    <a:pt x="201" y="1532"/>
                  </a:lnTo>
                  <a:lnTo>
                    <a:pt x="302" y="1420"/>
                  </a:lnTo>
                  <a:lnTo>
                    <a:pt x="521" y="1291"/>
                  </a:lnTo>
                  <a:lnTo>
                    <a:pt x="669" y="1219"/>
                  </a:lnTo>
                  <a:lnTo>
                    <a:pt x="650" y="1498"/>
                  </a:lnTo>
                  <a:lnTo>
                    <a:pt x="633" y="1728"/>
                  </a:lnTo>
                  <a:lnTo>
                    <a:pt x="602" y="1924"/>
                  </a:lnTo>
                  <a:lnTo>
                    <a:pt x="669" y="1753"/>
                  </a:lnTo>
                  <a:lnTo>
                    <a:pt x="657" y="2042"/>
                  </a:lnTo>
                  <a:lnTo>
                    <a:pt x="739" y="1680"/>
                  </a:lnTo>
                  <a:lnTo>
                    <a:pt x="781" y="1509"/>
                  </a:lnTo>
                  <a:lnTo>
                    <a:pt x="827" y="1308"/>
                  </a:lnTo>
                  <a:lnTo>
                    <a:pt x="863" y="1160"/>
                  </a:lnTo>
                  <a:lnTo>
                    <a:pt x="1123" y="1030"/>
                  </a:lnTo>
                  <a:lnTo>
                    <a:pt x="1294" y="952"/>
                  </a:lnTo>
                  <a:lnTo>
                    <a:pt x="1159" y="964"/>
                  </a:lnTo>
                  <a:lnTo>
                    <a:pt x="1454" y="798"/>
                  </a:lnTo>
                  <a:lnTo>
                    <a:pt x="1260" y="846"/>
                  </a:lnTo>
                  <a:lnTo>
                    <a:pt x="1513" y="669"/>
                  </a:lnTo>
                  <a:lnTo>
                    <a:pt x="1253" y="781"/>
                  </a:lnTo>
                  <a:lnTo>
                    <a:pt x="1059" y="852"/>
                  </a:lnTo>
                  <a:lnTo>
                    <a:pt x="888" y="893"/>
                  </a:lnTo>
                  <a:lnTo>
                    <a:pt x="933" y="639"/>
                  </a:lnTo>
                  <a:lnTo>
                    <a:pt x="941" y="502"/>
                  </a:lnTo>
                  <a:lnTo>
                    <a:pt x="941" y="300"/>
                  </a:lnTo>
                  <a:lnTo>
                    <a:pt x="916" y="135"/>
                  </a:lnTo>
                  <a:lnTo>
                    <a:pt x="869" y="6"/>
                  </a:lnTo>
                  <a:lnTo>
                    <a:pt x="798" y="0"/>
                  </a:lnTo>
                  <a:lnTo>
                    <a:pt x="751" y="65"/>
                  </a:lnTo>
                  <a:lnTo>
                    <a:pt x="745" y="148"/>
                  </a:lnTo>
                  <a:lnTo>
                    <a:pt x="633" y="224"/>
                  </a:lnTo>
                  <a:lnTo>
                    <a:pt x="644" y="272"/>
                  </a:lnTo>
                  <a:lnTo>
                    <a:pt x="644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CART0791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265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بحث عن الطريقة التي تَـفهم بها الآخرين ثم عن الطريقة التي تُفهم بها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CFAML019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7241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عندما تفهم معنى وجودك في الحياة سوف تدرك أنها هامة بالنسبة ل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CART082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2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تجاهل الناس الذين يرددون كلمة مستحي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RT0523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46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يدوم جمال الشكل و لكن جمال الروح هو الذي يدو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CART0866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2352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أهم اسباب الفشل في الحياة هو عدم الاعتراف بالأخط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CART0808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1515960" cy="2935440"/>
          </a:xfrm>
          <a:prstGeom prst="rect">
            <a:avLst/>
          </a:prstGeom>
          <a:ln w="0">
            <a:noFill/>
          </a:ln>
        </p:spPr>
      </p:pic>
      <p:pic>
        <p:nvPicPr>
          <p:cNvPr id="382" name="CART0816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18604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فكر ايجابياَ و كن متفائلاَ و صادقاً مع نفسك أولاً و مع الآخرين ثاني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CMEN11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8800" cy="2733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52480" y="5562720"/>
            <a:ext cx="5257800" cy="825480"/>
          </a:xfrm>
          <a:prstGeom prst="rect">
            <a:avLst/>
          </a:prstGeom>
          <a:solidFill>
            <a:srgbClr val="842d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رجوا لكم جميعا التوفيق والسداد  (اخوكم-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قد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ر ما تركز مجهودك في موضوع ما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,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تحقق النجاح المطلوب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01460_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27910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رؤيتك السلبية لنفسك سبب فشلك في الحياة و النظرة الايجابية تدفعك دائماً ل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ART0635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1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فكر دائماً فيما يسعدك و ابتعد دائماً عما يقلق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RT0975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26404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Smile-frown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609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ما تخاف منه قد يحدث لك اذا استمريت في التفكير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ART0492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3124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قارن نفسك بالآخرين و خصوصاً الفاشل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ART0324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352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ستمع لأي شخص يحاول أن يسبب لك أحباطات أو يقلل من شأن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ART0639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4308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07:58:02Z</dcterms:created>
  <dc:creator>53123</dc:creator>
  <dc:description/>
  <dc:language>en-US</dc:language>
  <cp:lastModifiedBy>*</cp:lastModifiedBy>
  <dcterms:modified xsi:type="dcterms:W3CDTF">2002-11-29T19:21:39Z</dcterms:modified>
  <cp:revision>12</cp:revision>
  <dc:subject/>
  <dc:title>طريقك الى النجاح في الحياة </dc:title>
</cp:coreProperties>
</file>